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wmf" ContentType="image/x-wmf"/>
  <Override PartName="/ppt/media/image5.png" ContentType="image/png"/>
  <Override PartName="/ppt/media/image6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media/image11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E69E-46C1-45FA-AB1E-76ED83365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259F-76B8-41F8-A043-4D7B8E420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B9BD-BCCD-44EA-9294-7DEE2A36A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4CDF-8CD1-44C8-88B7-9CF85C21D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50B75-DD0D-4AF3-AF6D-147D362F6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2DA06-9882-4014-BBD2-0DCDD1665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32E45-C6C1-45DB-9D31-D5082B2DC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74EDC-EB3B-4D6C-A8F8-2091B0341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F6229-DD7B-4807-B333-7D4E3BF39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2BDE9-AF78-43D8-8D19-0FA5F6894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D131B-4816-4794-9574-938658DA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8644-1BFA-42DB-8036-0BB299323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37840-8BFB-404B-879C-71F801F6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1A96A-E480-448E-9B1B-784454269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35067-21B7-4255-837B-9A64A214B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EDF27-1527-47F0-A35C-22A528183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F65BC-37FB-44B2-88B8-E48204826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83758-9E87-4047-ADFA-399655116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BB477-220C-4B85-92B5-4F25AABC8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7DFFD-B066-477E-B330-A15080D71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3A319-C52E-4418-A61A-BAFE5A689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99A54-F7E6-4979-81FF-4DCC041D0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9416-1337-411B-8886-79933896C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88165-BA09-404A-BD04-C74E4C79F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C6EF7-B237-4D09-A76E-79D55AF8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C199A-38B6-4395-8B68-A8ECAEEB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D7338-CEB0-44B1-92FB-A2C0C6FE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C8DDC-59F4-4795-A00F-C3D1C07F3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74E9E-C67B-4681-98AF-6FCB8B3CD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F15ED-AAC4-4BBE-A3F7-2D24E0B97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9ECCD-D605-4398-A995-1F4196EC5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210BE-C8D4-4D86-B461-98C448AE2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511C7-E0EB-40C1-85BB-D24EB3B8D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08C5-9F26-4AA0-9133-37B5647B9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D3442-F616-4732-B465-FBF543F81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AC253-DFED-4E58-B02E-D22FC7C48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A3EE3-DB7A-440A-BE41-97A1FA363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A0975-1D5D-4531-BEAB-88013D085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5955F-EA95-4399-83F5-E0CA2A53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39AB9-1CB9-4BC8-A887-AEA7CD96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6CFF2-D876-4A8C-B5FC-917F6FF06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C1596-6D15-4297-A56A-38587F153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9CC5B-0591-4112-A728-AC977806E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52A4E8-12F5-4385-82D5-40113BAA9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BEF0-242F-4F47-9D3B-526CD207F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4FB83-0CA8-4458-9C62-A8268B497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6B6EC5-367B-4526-B512-728FE4EAF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C4A23-1585-4613-B84D-4A712C695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A64AB5-114C-481A-9503-8DFCF0568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9B6D94-D908-4A3F-9600-20158CE43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BD93EC-1571-4447-BFE0-BDE97F8AC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52E95E-219D-4FBE-A449-6EE40223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0A1221-D759-425A-8469-B1AE1A0D2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BEEAA6-797B-471F-8C0F-B4E92AF91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830423-E5A5-4383-B921-4B3B4C8AC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8105-C772-4F29-B4FC-C158F0C52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F62DA-C3F1-4261-9EC9-A3DDFA091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7D2E-C6FC-40A9-8596-BCA0AAA9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963A-BA26-4A1B-8D54-55A289D8E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5FD8-8F9D-4FD9-AE3F-73468EEA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E2B54-986A-41B4-A963-9690518D3308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47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0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5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17D64-5340-49FF-A09F-922EE73F4BF9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5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96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8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9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100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ABE3E-EF4D-4964-B68A-25CD9B20BB3F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4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45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2D4DB-71D3-4D2A-A104-70E476C1F44D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0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91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3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Round Single Corner Rectangle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73398-E787-4235-A67C-B7E6FE35318B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UNDERSTANDING HOTEL ORGANIZATIONS</a:t>
            </a: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684000" y="4436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8" name="Picture 8" descr="j0308362[1]"/>
          <p:cNvPicPr/>
          <p:nvPr/>
        </p:nvPicPr>
        <p:blipFill>
          <a:blip r:embed="rId1"/>
          <a:stretch/>
        </p:blipFill>
        <p:spPr>
          <a:xfrm>
            <a:off x="6500880" y="3857760"/>
            <a:ext cx="2200320" cy="22096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Verdana"/>
              </a:rPr>
              <a:t>Sales and Marketing Depart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Individual sales manager in charge of corporate accounts, conventions, tour and travel market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Low intradepartmental interdependenc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Verdana"/>
              </a:rPr>
              <a:t>Human Resources Depart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Consists of employee recruitment, benefits administration, training subuni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Verdana"/>
              </a:rPr>
              <a:t>Accounting Depart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Prepares payroll, manages accounts receivables, accounts payables, handles purchases and cost controls, store room operations, night audi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Verdana"/>
              </a:rPr>
              <a:t>Engineering and Securit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Repairs, maintenance, guest security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1320" y="713880"/>
            <a:ext cx="77864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Hotel Functional Organizational Design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3" name="TextBox 6"/>
          <p:cNvSpPr/>
          <p:nvPr/>
        </p:nvSpPr>
        <p:spPr>
          <a:xfrm>
            <a:off x="2989800" y="3143160"/>
            <a:ext cx="18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ont Off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TextBox 7"/>
          <p:cNvSpPr/>
          <p:nvPr/>
        </p:nvSpPr>
        <p:spPr>
          <a:xfrm>
            <a:off x="497880" y="1928880"/>
            <a:ext cx="202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serv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65" name="Straight Arrow Connector 9"/>
          <p:cNvCxnSpPr/>
          <p:nvPr/>
        </p:nvCxnSpPr>
        <p:spPr>
          <a:xfrm>
            <a:off x="4929120" y="3142800"/>
            <a:ext cx="1215360" cy="2520"/>
          </a:xfrm>
          <a:prstGeom prst="straightConnector1">
            <a:avLst/>
          </a:prstGeom>
          <a:ln w="38160">
            <a:solidFill>
              <a:srgbClr val="ff8000"/>
            </a:solidFill>
            <a:miter/>
            <a:tailEnd len="med" type="arrow" w="med"/>
          </a:ln>
        </p:spPr>
      </p:cxnSp>
      <p:cxnSp>
        <p:nvCxnSpPr>
          <p:cNvPr id="266" name="Straight Arrow Connector 10"/>
          <p:cNvCxnSpPr/>
          <p:nvPr/>
        </p:nvCxnSpPr>
        <p:spPr>
          <a:xfrm flipH="1" flipV="1">
            <a:off x="5000040" y="3499560"/>
            <a:ext cx="1143720" cy="2520"/>
          </a:xfrm>
          <a:prstGeom prst="straightConnector1">
            <a:avLst/>
          </a:prstGeom>
          <a:ln w="38160">
            <a:solidFill>
              <a:srgbClr val="ff8000"/>
            </a:solidFill>
            <a:miter/>
            <a:tailEnd len="med" type="arrow" w="med"/>
          </a:ln>
        </p:spPr>
      </p:cxnSp>
      <p:sp>
        <p:nvSpPr>
          <p:cNvPr id="267" name="TextBox 13"/>
          <p:cNvSpPr/>
          <p:nvPr/>
        </p:nvSpPr>
        <p:spPr>
          <a:xfrm>
            <a:off x="2733840" y="2071800"/>
            <a:ext cx="197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om stat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TextBox 14"/>
          <p:cNvSpPr/>
          <p:nvPr/>
        </p:nvSpPr>
        <p:spPr>
          <a:xfrm>
            <a:off x="6072120" y="3071880"/>
            <a:ext cx="25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usekeep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TextBox 15"/>
          <p:cNvSpPr/>
          <p:nvPr/>
        </p:nvSpPr>
        <p:spPr>
          <a:xfrm>
            <a:off x="469080" y="4429080"/>
            <a:ext cx="29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cierge / Bellho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70" name="Straight Arrow Connector 16"/>
          <p:cNvCxnSpPr/>
          <p:nvPr/>
        </p:nvCxnSpPr>
        <p:spPr>
          <a:xfrm>
            <a:off x="2356920" y="2500200"/>
            <a:ext cx="1001160" cy="643320"/>
          </a:xfrm>
          <a:prstGeom prst="straightConnector1">
            <a:avLst/>
          </a:prstGeom>
          <a:ln w="38160">
            <a:solidFill>
              <a:srgbClr val="ff8000"/>
            </a:solidFill>
            <a:miter/>
            <a:tailEnd len="med" type="arrow" w="med"/>
          </a:ln>
        </p:spPr>
      </p:cxnSp>
      <p:cxnSp>
        <p:nvCxnSpPr>
          <p:cNvPr id="271" name="Straight Arrow Connector 18"/>
          <p:cNvCxnSpPr/>
          <p:nvPr/>
        </p:nvCxnSpPr>
        <p:spPr>
          <a:xfrm flipH="1" flipV="1">
            <a:off x="1928520" y="2500200"/>
            <a:ext cx="1000800" cy="643320"/>
          </a:xfrm>
          <a:prstGeom prst="straightConnector1">
            <a:avLst/>
          </a:prstGeom>
          <a:ln w="38160">
            <a:solidFill>
              <a:srgbClr val="ff8000"/>
            </a:solidFill>
            <a:miter/>
            <a:tailEnd len="med" type="arrow" w="med"/>
          </a:ln>
        </p:spPr>
      </p:cxnSp>
      <p:sp>
        <p:nvSpPr>
          <p:cNvPr id="272" name="TextBox 21"/>
          <p:cNvSpPr/>
          <p:nvPr/>
        </p:nvSpPr>
        <p:spPr>
          <a:xfrm>
            <a:off x="5247360" y="3643200"/>
            <a:ext cx="18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ean ro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73" name="Straight Arrow Connector 23"/>
          <p:cNvCxnSpPr/>
          <p:nvPr/>
        </p:nvCxnSpPr>
        <p:spPr>
          <a:xfrm flipH="1">
            <a:off x="2714040" y="3786120"/>
            <a:ext cx="929160" cy="643320"/>
          </a:xfrm>
          <a:prstGeom prst="straightConnector1">
            <a:avLst/>
          </a:prstGeom>
          <a:ln w="38160">
            <a:solidFill>
              <a:srgbClr val="ff8000"/>
            </a:solidFill>
            <a:miter/>
            <a:headEnd len="med" type="triangle" w="med"/>
            <a:tailEnd len="med" type="stealth" w="med"/>
          </a:ln>
        </p:spPr>
      </p:cxnSp>
      <p:cxnSp>
        <p:nvCxnSpPr>
          <p:cNvPr id="274" name="Straight Arrow Connector 26"/>
          <p:cNvCxnSpPr/>
          <p:nvPr/>
        </p:nvCxnSpPr>
        <p:spPr>
          <a:xfrm flipV="1">
            <a:off x="4714560" y="2214360"/>
            <a:ext cx="857880" cy="786240"/>
          </a:xfrm>
          <a:prstGeom prst="straightConnector1">
            <a:avLst/>
          </a:prstGeom>
          <a:ln w="38160">
            <a:solidFill>
              <a:srgbClr val="ff8000"/>
            </a:solidFill>
            <a:miter/>
            <a:tailEnd len="med" type="arrow" w="med"/>
          </a:ln>
        </p:spPr>
      </p:cxnSp>
      <p:sp>
        <p:nvSpPr>
          <p:cNvPr id="275" name="TextBox 32"/>
          <p:cNvSpPr/>
          <p:nvPr/>
        </p:nvSpPr>
        <p:spPr>
          <a:xfrm>
            <a:off x="5333760" y="1571760"/>
            <a:ext cx="19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gineer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TextBox 33"/>
          <p:cNvSpPr/>
          <p:nvPr/>
        </p:nvSpPr>
        <p:spPr>
          <a:xfrm>
            <a:off x="5657760" y="207180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p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77" name="Straight Arrow Connector 36"/>
          <p:cNvCxnSpPr/>
          <p:nvPr/>
        </p:nvCxnSpPr>
        <p:spPr>
          <a:xfrm flipH="1" flipV="1">
            <a:off x="6714360" y="2285640"/>
            <a:ext cx="857880" cy="714960"/>
          </a:xfrm>
          <a:prstGeom prst="straightConnector1">
            <a:avLst/>
          </a:prstGeom>
          <a:ln w="38160">
            <a:solidFill>
              <a:srgbClr val="ff8000"/>
            </a:solidFill>
            <a:miter/>
            <a:tailEnd len="med" type="arrow" w="med"/>
          </a:ln>
        </p:spPr>
      </p:cxnSp>
      <p:sp>
        <p:nvSpPr>
          <p:cNvPr id="278" name="TextBox 43"/>
          <p:cNvSpPr/>
          <p:nvPr/>
        </p:nvSpPr>
        <p:spPr>
          <a:xfrm>
            <a:off x="5969880" y="4929120"/>
            <a:ext cx="1652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aundr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79" name="Straight Arrow Connector 48"/>
          <p:cNvCxnSpPr/>
          <p:nvPr/>
        </p:nvCxnSpPr>
        <p:spPr>
          <a:xfrm flipH="1">
            <a:off x="7071480" y="3785760"/>
            <a:ext cx="786600" cy="1072440"/>
          </a:xfrm>
          <a:prstGeom prst="straightConnector1">
            <a:avLst/>
          </a:prstGeom>
          <a:ln w="38160">
            <a:solidFill>
              <a:srgbClr val="ff8000"/>
            </a:solidFill>
            <a:miter/>
            <a:headEnd len="med" type="triangle" w="med"/>
            <a:tailEnd len="med" type="stealth" w="med"/>
          </a:ln>
        </p:spPr>
      </p:cxn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LODGING BUSINESS FORM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81" name="Content Placeholder 3" descr="Branson Hotel The Grand Oaks Deluxe 2 Queen Beds Housekeeping.jpg"/>
          <p:cNvPicPr/>
          <p:nvPr/>
        </p:nvPicPr>
        <p:blipFill>
          <a:blip r:embed="rId1"/>
          <a:stretch/>
        </p:blipFill>
        <p:spPr>
          <a:xfrm>
            <a:off x="2055960" y="928800"/>
            <a:ext cx="5079960" cy="33908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00040" y="46432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8d3e"/>
                </a:solidFill>
                <a:latin typeface="Verdana"/>
              </a:rPr>
              <a:t>Lodging Business Forms</a:t>
            </a:r>
            <a:endParaRPr b="1" lang="en-US" sz="3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five basic lodging business form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wner opera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wner manag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depend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ranchi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ement Contra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Picture 4" descr="j0322381[1]"/>
          <p:cNvPicPr/>
          <p:nvPr/>
        </p:nvPicPr>
        <p:blipFill>
          <a:blip r:embed="rId1"/>
          <a:stretch/>
        </p:blipFill>
        <p:spPr>
          <a:xfrm rot="8667600">
            <a:off x="5508360" y="2944080"/>
            <a:ext cx="2448000" cy="19969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0040" y="478620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Owner Operated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derstood to have been the first type of lodging management assoc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tel is run by an owner and the owner’s fami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rrently popular Bed and Breakfast hotel is considered owner opera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71680" y="478620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Owner Managed</a:t>
            </a: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wner has hired additional (non-family) personnel to help with the running of the proper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verall management is in the hands of the owner, but day to day operations can be in the hands of oth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28760" y="478620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Independen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wner has no role or management in day to day oper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independent group of managers are responsible to the owner for the hotel’s 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hotel is not chain affiliate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Franchised</a:t>
            </a: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dependently owned hotels that affiliate themselves with a cha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hain provides standard operating procedures and guidelines to maintain a consistent level of quality and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hain has limited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Franchise Costs/Benefit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ou can expect to pay in the range of $90,000 to $150,000 in initial fees for a first-class hotel franchise like Hilton‘s Homewood Suit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ditional costs typically include royalty fees, reservation fees, marketing fees, frequent traveler fees, and miscellaneous charges for items like training or commissions. These numbers are calculated assuming a 300-room hotel with 60% occupancy for the first year, so actual costs can vary. Total costs over ten years can run as high as $10 million or mor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Franchise Costs/Benefit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ose with the best relationships with their franchisors reported gross operating profits per room (GOPAR) of $12,400, which translates to over $3.2 million per year in a 300 room hote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p Franchises: Marriott (Ritz Carlton), Hilton, Four Seasons, Park Plaza, Holiday In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ontent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zational Cha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ne and Staff Fun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usiness Fo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enue Sour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it and Co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Management Contrac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dependently owned hotels that affiliate themselves with a chai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chain maintains a high level of control as the chain operates the hotel on the owner’s behalf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y hotel companies offer both franchises and management contrac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agement fees are paid as a % of revenu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Revenues, Profits and Costs</a:t>
            </a: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00" name="Picture 4" descr="http://www.fotosearch.com/bthumb/FSC/FSC044/x10709781.jpg"/>
          <p:cNvPicPr/>
          <p:nvPr/>
        </p:nvPicPr>
        <p:blipFill>
          <a:blip r:embed="rId1"/>
          <a:stretch/>
        </p:blipFill>
        <p:spPr>
          <a:xfrm>
            <a:off x="1857240" y="954000"/>
            <a:ext cx="5143680" cy="35704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Revenue Source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 revenue source is the result of a product or service a hotel makes available to guests for a pric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leeping Roo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eting / Function Spa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utlets / Ancillary Revenue Sour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28760" y="478620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Sleeping Room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leeping room is the most profitable of all of the hotel’s produ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sleeping room is an accommodation un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rice of each of these units is called 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oom r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ccupancy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the measurement of how many rooms are sold each night verses how many rooms the hotel has to sel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75 rooms sold of 100 rooms avail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75% occupancy r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Meeting/Function Spac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y hotels incorporate the revenue source of non-sleeping rooms sa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eting rooms, or function rooms are used for any type of group mee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revenue sources from meeting/function space comes from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. Selling space for a specified perio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. Providing food and beverage service in thes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o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8d3e"/>
                </a:solidFill>
                <a:latin typeface="Verdana"/>
              </a:rPr>
              <a:t>Outlets/Ancillary Revenue Sources</a:t>
            </a:r>
            <a:endParaRPr b="1" lang="en-US" sz="31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utle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a food and beverage point of sa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ncillary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enue sources are revenue sources outside of sleeping rooms or food and beverage such as gift shops or spa servic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28760" y="4714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Profit Margin</a:t>
            </a: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hotel sleeping room is the most profitable portion  of all hotel products because of profit margi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it margin is determined by comparing sales revenue verses the costs incurred in providing a product or servic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Room Cost</a:t>
            </a: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oom cost analysis looks at what it costs the hotel to keep a room running in relation to what it is sold for to the gues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1071720" y="1785960"/>
          <a:ext cx="6769080" cy="2660760"/>
        </p:xfrm>
        <a:graphic>
          <a:graphicData uri="http://schemas.openxmlformats.org/drawingml/2006/table">
            <a:tbl>
              <a:tblPr/>
              <a:tblGrid>
                <a:gridCol w="2255760"/>
                <a:gridCol w="2257200"/>
                <a:gridCol w="22561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/L/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bou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verhe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w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ousekeep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gineering (Internal structure maintenanc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ounds Maintenance (Grounds surrounding buildin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bt service of owners marketing (Local effor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nagement Costs (Inc. franchise or management contract fe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x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rporate Oblig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0040" y="478620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Room Cost Exampl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514080" y="529920"/>
            <a:ext cx="3932280" cy="43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BC Hotel sells a room for an average of $150 per night. The cost incurred in preparing each room for sale are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a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3.00      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gh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2.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ower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2.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ousekeeping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9.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ngineering/Ground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5.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bt service of owner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0.5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rketing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2.25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nagement cost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2.75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rporate obligation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2.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Verdana"/>
              </a:rPr>
              <a:t>Taxes, etc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Verdana"/>
              </a:rPr>
              <a:t>	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Verdana"/>
              </a:rPr>
              <a:t>	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Verdana"/>
              </a:rPr>
              <a:t>$2.5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otal: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31.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756320" y="529920"/>
            <a:ext cx="3930480" cy="43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pare this to the actual cost to the price sold (room rate) and the room cost can be determined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oom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st =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Verdana"/>
              </a:rPr>
              <a:t>Actual Cost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oom R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Verdana"/>
              </a:rPr>
              <a:t>$  31.00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150.00 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1.0%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oom Rate – Room Cost = Profi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Food Cost</a:t>
            </a: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	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common misconception in the hospitality industry is to consider food sales as profitable as room sales. This is not the ca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od cost is the cost of a particular food item in relation to the price for which it is sol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t simply, the food cost percentage is the percentage of the profit taken up but the actual cost of the it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Diagram 3" descr=""/>
          <p:cNvPicPr/>
          <p:nvPr/>
        </p:nvPicPr>
        <p:blipFill>
          <a:blip r:embed="rId1"/>
          <a:stretch/>
        </p:blipFill>
        <p:spPr>
          <a:xfrm>
            <a:off x="274680" y="353880"/>
            <a:ext cx="8588160" cy="62229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8760" y="478620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Food Cost Exampl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00040" y="49968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equation for determining the cost i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od cost = Purchase Price / Menu Pr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r example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Item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Purchase Price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Menu Price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Food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eak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$5.95/ea.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$22.00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7.0%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hicken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$3.95/ea.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$17.95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2.0%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aesar Salad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$1.99/ea. 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$ 9.95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0.0%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0040" y="4857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Opportunity Cos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ch night when a room goes unsold the hotel loses that opportunity to ever sell it aga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is called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pportunity co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“Empty Room Theory”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ates that once a room goes unoccupied, it is gone forev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0040" y="4857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Opportunity Cost Exampl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BC Hotel has 400 sleeping roo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ider the following 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oom Cost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oom Rate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fit Margi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leeping Room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30.00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150.00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120.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 daily maximum room profit potential is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48,000  ($120x400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eekly: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        $336,0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onthly: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     $1,400,0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Yearly: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   $17,520,0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17,520,000 is the maximum potential room profit that ABC Hotel could make in a year. Each unoccupied room subtracts from that number. It is easy to understand why hotel operators focus so much attention on occupanc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00040" y="4857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aptive Audience Quotien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aptive audienc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re guests who are staying at the hotel who will utilise the outlet in the hote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ptive audience quotients apply to both outlet/ancillary sales and catering sa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roup catering contribution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the catering business acquired by a hotel that has all, or a large percentage of, the attendees staying at the hotel itsel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Like most service related organizations, hotels are divided between LINE functions and STAFF function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4" name="Picture 2" descr="http://www.fotosearch.com/bthumb/IMZ/IMZ003/szo0441.jpg"/>
          <p:cNvPicPr/>
          <p:nvPr/>
        </p:nvPicPr>
        <p:blipFill>
          <a:blip r:embed="rId1"/>
          <a:stretch/>
        </p:blipFill>
        <p:spPr>
          <a:xfrm>
            <a:off x="6215040" y="4000680"/>
            <a:ext cx="2317680" cy="19285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" descr="http://www.fotosearch.com/bthumb/IMZ/IMZ004/shu0103.jpg"/>
          <p:cNvPicPr/>
          <p:nvPr/>
        </p:nvPicPr>
        <p:blipFill>
          <a:blip r:embed="rId2"/>
          <a:stretch/>
        </p:blipFill>
        <p:spPr>
          <a:xfrm>
            <a:off x="500040" y="4071960"/>
            <a:ext cx="2440080" cy="19288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ine Function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1117080"/>
            <a:ext cx="9144000" cy="4526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ne functions are the tasks assigned to employees that bring them in regular contact with gues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ne operations in a hotel are the Rooms Division &amp; Food and Beverage Divi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ne employees are hands-on participants in the assembly and delivery of the hotel’s servic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8" name="Picture 2" descr="http://www.fotosearch.com/bthumb/IMZ/IMZ003/szo0441.jpg"/>
          <p:cNvPicPr/>
          <p:nvPr/>
        </p:nvPicPr>
        <p:blipFill>
          <a:blip r:embed="rId1"/>
          <a:stretch/>
        </p:blipFill>
        <p:spPr>
          <a:xfrm>
            <a:off x="5715000" y="4429080"/>
            <a:ext cx="2317680" cy="19288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4" descr="las col 3.jpg"/>
          <p:cNvPicPr/>
          <p:nvPr/>
        </p:nvPicPr>
        <p:blipFill>
          <a:blip r:embed="rId1"/>
          <a:stretch/>
        </p:blipFill>
        <p:spPr>
          <a:xfrm>
            <a:off x="6286680" y="1285920"/>
            <a:ext cx="2342880" cy="151452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ROOMS DEPARTMEN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28760" y="1428840"/>
            <a:ext cx="8286480" cy="4643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erforms the lodging function of a hote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ncludes Front Office and Housekeep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asks performe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ceive reserv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ceive gu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ssign rooms to gu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intain status of room (available or vacant?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ceive mail / phone messages for gu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intain security &amp; cleanliness in rooms and public are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nswer guests’ ques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ose coordination needed by all subuni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FOOD AND BEVERAGE DEPART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rovide food and beverage for gue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ay include coffee shop, restaurant, poolside snack bar, room service, banquet, function rooms, lobby bar, nightclub / disco, room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rovides banquet and catering services for events in the hot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4" name="Picture 4" descr="chef.jpg"/>
          <p:cNvPicPr/>
          <p:nvPr/>
        </p:nvPicPr>
        <p:blipFill>
          <a:blip r:embed="rId1"/>
          <a:stretch/>
        </p:blipFill>
        <p:spPr>
          <a:xfrm>
            <a:off x="2643120" y="4143240"/>
            <a:ext cx="3214800" cy="21513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Food and Beverage Department co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onsists of kitchen (food preparation) and F&amp;B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ontains individual F&amp;B outlets – restaurants and coffee shop etc (each managed by a manage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ull service hotels have convention and catering subun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tewarding subunit does the purchasing,cleaning and washing, expediting and arranging facilities for food and bever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Staff Function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760040"/>
            <a:ext cx="9144000" cy="4526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ff functions are those behind the scenes activities that support the line functions and have little contact with guest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: Engineering, security, human resources, marketing, accoun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Picture 2" descr="http://www.fotosearch.com/bthumb/IMZ/IMZ004/shu0103.jpg"/>
          <p:cNvPicPr/>
          <p:nvPr/>
        </p:nvPicPr>
        <p:blipFill>
          <a:blip r:embed="rId1"/>
          <a:stretch/>
        </p:blipFill>
        <p:spPr>
          <a:xfrm>
            <a:off x="6286680" y="4143240"/>
            <a:ext cx="2428560" cy="19209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3T06:28:41Z</dcterms:created>
  <dc:creator>Chris Drzewucki</dc:creator>
  <dc:description/>
  <dc:language>en-US</dc:language>
  <cp:lastModifiedBy>robert</cp:lastModifiedBy>
  <dcterms:modified xsi:type="dcterms:W3CDTF">2011-04-01T12:50:55Z</dcterms:modified>
  <cp:revision>59</cp:revision>
  <dc:subject/>
  <dc:title>FRONT OFFICE OPERATIONS MANAGEMENT</dc:title>
</cp:coreProperties>
</file>